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-360" y="0"/>
            <a:ext cx="666900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CF6F-9C02-4364-A385-D96EEB0ADC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기 로버트 후크의 그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3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노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879-6C33-4F97-951E-182BF788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ABC-A5FE-4434-9D97-59822ECF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CCD-78D4-482D-B46D-EB13D2F5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985-BC70-451D-B6AD-AA852454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9902-95CD-4945-9DCA-8411CA5B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F3D4-CA77-40A7-B446-83D80264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5DC4-EF69-4EB9-B758-CFA7CD4F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49C0-AA5A-4B56-88B9-6786EE8B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CA3F-DF62-41C2-8AD8-B2510D9A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6317-82D4-4D51-ACAD-2BB054A4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FD96-795F-4496-BC83-3B8C9FB4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EDD-2030-4FEB-9A8B-73A33F68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3D72-B310-4D8D-937D-1EA4AB0C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8FFD-2567-4C64-9D24-1830F121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BBD8-7EC1-4D38-9E1D-FD7042DF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00EF-7A2E-4957-9E6D-BA4E59E8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C185-F1D3-490B-A60B-3E9559F7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CE2-4E9B-4AA7-A91E-430B8713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156-A4FE-4118-8AA4-148CF91D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266-0FCE-4664-8604-8138264B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A23-942B-47CA-A976-36CA048D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78B-21C7-424B-A836-DD4509F4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450-D606-4B2E-9848-38980427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9DF-86FE-4B67-AF8F-304D5281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00E7-95B8-4DB0-83A7-24F61DD9A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3F7C-8E5B-4482-B9B3-5039EB457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hyperlink" Target="http://en.wikipedia.org/wiki/Image:Origin_of_Species_title_page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hyperlink" Target="http://en.wikipedia.org/wiki/Image:Carolus_Linnaeus_%28cleaned_up_version%29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b/b5/Great_Chain_of_Being_2.png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a/ad/Charles_Lyell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vantGarde Bk BT"/>
              </a:rPr>
              <a:t>다윈과 진화론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굴림"/>
                <a:ea typeface="굴림"/>
              </a:rPr>
              <a:t>&lt;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종의 기원</a:t>
            </a:r>
            <a:r>
              <a:rPr b="0" lang="en-US" sz="3800" spc="-1" strike="noStrike">
                <a:solidFill>
                  <a:srgbClr val="cc0000"/>
                </a:solidFill>
                <a:latin typeface="굴림"/>
                <a:ea typeface="굴림"/>
              </a:rPr>
              <a:t>&gt;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1859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vantGarde Bk BT"/>
              </a:rPr>
              <a:t>진화의 새로운 메커니즘</a:t>
            </a:r>
            <a:r>
              <a:rPr b="1" lang="en-US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zh-CN" sz="2200" spc="-1" strike="noStrike">
                <a:solidFill>
                  <a:srgbClr val="000000"/>
                </a:solidFill>
                <a:latin typeface="AvantGarde Bk BT"/>
              </a:rPr>
              <a:t>변이 </a:t>
            </a:r>
            <a:r>
              <a:rPr b="1" lang="en-US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1" lang="zh-CN" sz="2200" spc="-1" strike="noStrike">
                <a:solidFill>
                  <a:srgbClr val="000000"/>
                </a:solidFill>
                <a:latin typeface="AvantGarde Bk BT"/>
              </a:rPr>
              <a:t>자연선택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변이들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(variations)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간의 생존투쟁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(struggle for existence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주어진 환경에서 생존에 유리한 변이의 자연선택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(natural selection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vantGarde Bk BT"/>
              </a:rPr>
              <a:t>인간이 사육동물을 인위적으로 선택</a:t>
            </a:r>
            <a:r>
              <a:rPr b="0" lang="en-US" sz="1900" spc="-1" strike="noStrike">
                <a:solidFill>
                  <a:srgbClr val="000000"/>
                </a:solidFill>
                <a:latin typeface="AvantGarde Bk BT"/>
              </a:rPr>
              <a:t>(artificial selection)</a:t>
            </a:r>
            <a:r>
              <a:rPr b="0" lang="zh-CN" sz="1900" spc="-1" strike="noStrike">
                <a:solidFill>
                  <a:srgbClr val="000000"/>
                </a:solidFill>
                <a:latin typeface="AvantGarde Bk BT"/>
              </a:rPr>
              <a:t>하듯이</a:t>
            </a:r>
            <a:r>
              <a:rPr b="0" lang="en-US" sz="1900" spc="-1" strike="noStrike">
                <a:solidFill>
                  <a:srgbClr val="000000"/>
                </a:solidFill>
                <a:latin typeface="AvantGarde Bk BT"/>
              </a:rPr>
              <a:t>!!</a:t>
            </a:r>
            <a:endParaRPr b="0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선택된 변이가 가진 형질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(trait)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대물림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(heritage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※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위의 과정 반복 → 점진적으로 형질 분화 및 고정 → 종 분화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03640" y="3665520"/>
            <a:ext cx="4824360" cy="3192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The title page of the 1859 edition of On the Origin of Species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716280"/>
            <a:ext cx="18306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굴림"/>
                <a:ea typeface="굴림"/>
              </a:rPr>
              <a:t>&lt;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종의 기원</a:t>
            </a:r>
            <a:r>
              <a:rPr b="0" lang="en-US" sz="3800" spc="-1" strike="noStrike">
                <a:solidFill>
                  <a:srgbClr val="cc0000"/>
                </a:solidFill>
                <a:latin typeface="굴림"/>
                <a:ea typeface="굴림"/>
              </a:rPr>
              <a:t>&gt;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이 야기한 문제들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종 불변 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진화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1870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년경이면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종교와 상관없이 대다수 지식인들에게 진화 수용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시간에 따라 신의 섭리에 맞게 완전해져 간다”는 식으로 해석 가능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But, ‘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자연선택’이라는 메커니즘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종교인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진화가 순전히 자연적 과정이라면 신의 섭리는 어디에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지식인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무자비한 경쟁을 정당화하는 불쾌한 논리 아닌가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생물학자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선택될 변이는 애초에 어떻게 발생한단 말인가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But,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인간의 지위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인간도 같은 방식으로 진화했는가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인간과 동물은 같은가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?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그래도 무언가 특별한 게 있지 않은가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굴림"/>
                <a:ea typeface="굴림"/>
              </a:rPr>
              <a:t>&lt;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종의 기원</a:t>
            </a:r>
            <a:r>
              <a:rPr b="1" lang="en-US" sz="3800" spc="-1" strike="noStrike">
                <a:solidFill>
                  <a:srgbClr val="cc0000"/>
                </a:solidFill>
                <a:latin typeface="굴림"/>
                <a:ea typeface="굴림"/>
              </a:rPr>
              <a:t>&gt;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이후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신라마르크주의의 유행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다윈조차도 인간의 경우엔 획득형질의 유전 고려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모건의 집단유전학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멘델의 법칙 재발견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형질 대물림의 원리 밝혀냄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독립형질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형질은 섞인다고 평균화되지 않음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쥴리언 헉슬리의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Modern Synthesis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드 브리스의 돌연변이 이론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다윈의 자연선택 이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우연한 돌연변이가 적응과 대진화 모두의 원동력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점진적 진화에 대한 믿음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현재는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?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도킨스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굴드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르네상스 시기 이후 자연사의 과제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신대륙 발견 이후 쏟아져 들어오는 새로운 동식물들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기존의 분류체계에 집어넣는 작업 →  새로운 분류학의 탄생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4618080" cy="360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651640" y="2492280"/>
            <a:ext cx="243972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새로운 분류학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린네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(1707-1778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619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꼼꼼한 식물분류학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14,000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종의 식물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3,198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종의 곤충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1,564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종의 패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조개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, 158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종의 어류 표본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꽃을 토대로 분류 → 인공적 기준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but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적용 간편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분류법의 핵심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종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속 구분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종의 불변성에 대한 믿음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"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생물의 종은 신이 창조한 것으로 일정 불변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" 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형질 대물림 과정은 단지 종 내 개체수 증가 과정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그러나 분류의 어려움은 계속됨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eg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동물인지 식물인지 헷갈린 생물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559560" y="4280040"/>
            <a:ext cx="2584440" cy="2577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Carl von Linné, Alexander Roslin, 1775. Currently owned by and hanging at the Royal Swedish Academy of Sciences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77080" y="1557360"/>
            <a:ext cx="21542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“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존재의 대사슬 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(great chain of being)”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446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모든 생명체는 가장 하등의 것으로부터 가장 고등인 인간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또는 그 너머의 신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에 이르기까지 하나의 사슬을 이루고 있다”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-4647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당시 널리 받아들여지던 오래된 생각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-4647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존재의 대사슬”에 ‘시간’을 도입하면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1" name="" descr="Image:Great Chain of Being 2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8360" y="1557360"/>
            <a:ext cx="3370320" cy="4967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The Great Chain of Being"/>
          <p:cNvPicPr/>
          <p:nvPr/>
        </p:nvPicPr>
        <p:blipFill>
          <a:blip r:embed="rId4"/>
          <a:stretch/>
        </p:blipFill>
        <p:spPr>
          <a:xfrm>
            <a:off x="1187280" y="2565360"/>
            <a:ext cx="34560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라마르크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1744-1829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532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6699"/>
                </a:solidFill>
                <a:latin typeface="AvantGarde Bk BT"/>
              </a:rPr>
              <a:t>종은 시간에 따라 변화한다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간단한 것에서 점차 복잡한 것으로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6699"/>
                </a:solidFill>
                <a:latin typeface="AvantGarde Bk BT"/>
              </a:rPr>
              <a:t>변화의 메커니즘 제시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변화 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=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외부 환경에 대한 적응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use and Disuse &amp;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획득형질의 대물림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vantGarde Bk BT"/>
              </a:rPr>
              <a:t>기린의 목</a:t>
            </a:r>
            <a:r>
              <a:rPr b="0" lang="en-US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100" spc="-1" strike="noStrike">
                <a:solidFill>
                  <a:srgbClr val="000000"/>
                </a:solidFill>
                <a:latin typeface="AvantGarde Bk BT"/>
              </a:rPr>
              <a:t>펭귄 날개의 퇴화</a:t>
            </a:r>
            <a:endParaRPr b="0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&lt;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동물철학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&gt;(1809)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출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진화’ 개념 널리 알림 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(≠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수용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84720" y="620640"/>
            <a:ext cx="2951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지질학의 발전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777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동일과정설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(vs.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격변설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베르너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(1750-1817), 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라이엘</a:t>
            </a:r>
            <a:r>
              <a:rPr b="0" lang="ko-KR" sz="2000" spc="-1" strike="noStrike">
                <a:solidFill>
                  <a:srgbClr val="336699"/>
                </a:solidFill>
                <a:latin typeface="AvantGarde Bk BT"/>
              </a:rPr>
              <a:t>(1797-1875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지표면상의 모든 변화과정은 지금과 동일한 점진적 과정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매우 긴 ‘지질학적 시간’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성경 연대기와 노아의 홍수 거부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8" name="" descr="Image:Charles Lye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3141720"/>
            <a:ext cx="2700360" cy="3024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780000" y="3141720"/>
            <a:ext cx="4824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화석의 발견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pic>
        <p:nvPicPr>
          <p:cNvPr id="111" name="" descr="17th century ammonoid fossils"/>
          <p:cNvPicPr/>
          <p:nvPr/>
        </p:nvPicPr>
        <p:blipFill>
          <a:blip r:embed="rId2"/>
          <a:stretch/>
        </p:blipFill>
        <p:spPr>
          <a:xfrm>
            <a:off x="5651640" y="2852640"/>
            <a:ext cx="2879640" cy="3759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mammoth coloring page graphic"/>
          <p:cNvPicPr/>
          <p:nvPr/>
        </p:nvPicPr>
        <p:blipFill>
          <a:blip r:embed="rId3"/>
          <a:stretch/>
        </p:blipFill>
        <p:spPr>
          <a:xfrm>
            <a:off x="684360" y="2852640"/>
            <a:ext cx="4824360" cy="3756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11280" y="1483920"/>
            <a:ext cx="7200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매머드 등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현재는 존재하지 않는 종들의 화석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산 위의 해양생물체 화석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굉장히 오래 전에 살던 생명체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현재 종들의 선조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멸종한 다른 종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라이엘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찰스 다윈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(Charles Darwin, 1809-1882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70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집안의 분위기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에라스무스 다윈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루나 협회 회원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라마르크의 진화론에 동조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아버지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크리스트교에 회의적인 내과의사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찰스 다윈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아마추어 자연학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비글호의 선상 자연학자로 남아메리카 여행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1831-36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여행 후 얼마 지나지 않아 진화론자로 개종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1837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경으로 추정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  <a:ea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종의 기원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  <a:ea typeface="굴림"/>
              </a:rPr>
              <a:t>&gt;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 (1859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20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년간이나 자신의 생각 발표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1858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년 자신의 생각과 흡사한 월러스의 논문을 보고서야 그동안의 연구결과를 요약해 출판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“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진화의 나무”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분지형 진화 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(not 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단선적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227640" y="1628640"/>
            <a:ext cx="2502000" cy="4249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daptive Radiation in Darwin's Finches"/>
          <p:cNvPicPr/>
          <p:nvPr/>
        </p:nvPicPr>
        <p:blipFill>
          <a:blip r:embed="rId3"/>
          <a:stretch/>
        </p:blipFill>
        <p:spPr>
          <a:xfrm>
            <a:off x="684360" y="1628640"/>
            <a:ext cx="54720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7-07-18T07:10:39Z</dcterms:modified>
  <cp:revision>48</cp:revision>
  <dc:subject/>
  <dc:title>중세 유럽의 과학</dc:title>
</cp:coreProperties>
</file>